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2B9-1295-4ED2-BA0D-B1FB2DCF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E22-8972-478B-A07F-572E4775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08D-BCD2-46B0-84D6-A1445010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976-533A-4F03-A6AD-BACD472E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CA1-8611-4490-8F87-AD46FDE5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DD1-BDBA-4E90-B815-BDE212D4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C5C-AEE3-408B-A6D1-27D9E344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F5D-B188-4A98-8E63-983ED12B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6C2-1FE3-4113-8DCA-75C42083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CA4-025D-4652-93F6-6A84D0B9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C0B-2BC6-41CA-8B0C-8F1FDACB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993-9820-4BC1-A34A-7FB40552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1118-272B-4AC5-BC1A-77C4F8ABB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2075760"/>
            <a:ext cx="9147240" cy="11000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                            </a:t>
            </a:r>
            <a:r>
              <a:rPr b="1" lang="bg-BG" sz="4400" spc="-1" strike="noStrike">
                <a:solidFill>
                  <a:srgbClr val="ffffff"/>
                </a:solidFill>
                <a:latin typeface="comic"/>
              </a:rPr>
              <a:t>2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1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бичам да приказвам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за вечните неща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на грешни да показвам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Спасителя Христа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Предметът на таз повест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е вечната любов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акъв предмет друг няма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оз свят - ни стар, ни н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6480"/>
            <a:ext cx="9144000" cy="66744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колко радост има</a:t>
            </a:r>
            <a:br>
              <a:rPr sz="4800"/>
            </a:b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аз повест най-люби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ткрива на все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1735920"/>
            <a:ext cx="9210600" cy="1033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аз повест ми е мила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най-истинна от вси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душа ми влива сила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И с радост я роси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За мене Той ще стори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най-чудните неща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Там всеки ще намери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безброй съкровища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150480"/>
            <a:ext cx="9144000" cy="7162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колко радост има</a:t>
            </a:r>
            <a:br>
              <a:rPr sz="4800"/>
            </a:b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аз повест най-люби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ткрива на все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2098440"/>
            <a:ext cx="9147240" cy="11061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3.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И горе с хор небесен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кога във век веков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ще славим с нова песен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се тази стара повест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ще чу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e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м в Божи храм -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сам Той за Своя почест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ще я разказва та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87840"/>
            <a:ext cx="9144000" cy="70405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Times New Roman"/>
              </a:rPr>
              <a:t>Припев: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, колко радост има</a:t>
            </a:r>
            <a:br>
              <a:rPr sz="4800"/>
            </a:b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в таз повест най-любима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Открива на все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Monotype Corsiva"/>
              </a:rPr>
              <a:t>Христовата любов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9:05:53Z</dcterms:created>
  <dc:creator>TrifonTrifonow</dc:creator>
  <dc:description/>
  <dc:language>en-US</dc:language>
  <cp:lastModifiedBy>TrifonTrifonow</cp:lastModifiedBy>
  <dcterms:modified xsi:type="dcterms:W3CDTF">2005-11-20T14:51:38Z</dcterms:modified>
  <cp:revision>8</cp:revision>
  <dc:subject/>
  <dc:title>Slide 1</dc:title>
</cp:coreProperties>
</file>